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FE5-4907-4021-BFA1-B63E5C817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A0D-2A28-4741-83D6-3F2A86DD5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ed v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AC7-168D-472C-9D18-F17BF9412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ed v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719-8516-4E1A-A41A-7CE39373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71C-0E73-4909-B8F3-B0908E7E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7B0-FA97-4250-950C-17A605C6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05F-5718-4725-A83A-B7ABC592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2CC-A837-4DA2-BE66-CE85906C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234-260D-4E27-8951-5DB5C469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68D-9667-49A6-A591-8C7C4FF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B1D-4806-49D8-8857-A31809E4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B48-5CE1-4394-ACEE-9B851D3F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8BA-574F-439E-805A-8B46C4F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CA9-4E44-4953-84BA-35C9A78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972-75AB-441D-8747-BD0A8747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355B-930E-4AE5-8126-040C1B42D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ngdc.noaa.gov/wiki/index.php?title=ISO_Metadata_Standard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s://www.ngdc.noaa.gov/wiki/index.php?title=ISO_People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ngdc.noaa.gov/nmmrview/fgdc.jsp?id=gov.noaa.ngdc:G01414&amp;view=faq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471600" y="4014720"/>
            <a:ext cx="8215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461520" y="2906640"/>
            <a:ext cx="1337400" cy="1179720"/>
            <a:chOff x="461520" y="2906640"/>
            <a:chExt cx="1337400" cy="1179720"/>
          </a:xfrm>
        </p:grpSpPr>
        <p:sp>
          <p:nvSpPr>
            <p:cNvPr id="50" name="Rectangle 4"/>
            <p:cNvSpPr/>
            <p:nvPr/>
          </p:nvSpPr>
          <p:spPr>
            <a:xfrm>
              <a:off x="55728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461520" y="2906640"/>
              <a:ext cx="133740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usto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2" name="AutoShape 6"/>
            <p:cNvCxnSpPr>
              <a:stCxn id="51" idx="2"/>
              <a:endCxn id="50" idx="0"/>
            </p:cNvCxnSpPr>
            <p:nvPr/>
          </p:nvCxnSpPr>
          <p:spPr>
            <a:xfrm rot="5400000">
              <a:off x="620640" y="3434400"/>
              <a:ext cx="516960" cy="501840"/>
            </a:xfrm>
            <a:prstGeom prst="bentConnector3">
              <a:avLst>
                <a:gd name="adj1" fmla="val 53728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53" name="Group 7"/>
          <p:cNvGrpSpPr/>
          <p:nvPr/>
        </p:nvGrpSpPr>
        <p:grpSpPr>
          <a:xfrm>
            <a:off x="1410120" y="2031840"/>
            <a:ext cx="1454760" cy="2054520"/>
            <a:chOff x="1410120" y="2031840"/>
            <a:chExt cx="1454760" cy="2054520"/>
          </a:xfrm>
        </p:grpSpPr>
        <p:sp>
          <p:nvSpPr>
            <p:cNvPr id="54" name="Rectangle 8"/>
            <p:cNvSpPr/>
            <p:nvPr/>
          </p:nvSpPr>
          <p:spPr>
            <a:xfrm>
              <a:off x="190332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1410120" y="2031840"/>
              <a:ext cx="145476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Mandato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dentific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" name="AutoShape 10"/>
            <p:cNvCxnSpPr>
              <a:stCxn id="55" idx="2"/>
              <a:endCxn id="54" idx="0"/>
            </p:cNvCxnSpPr>
            <p:nvPr/>
          </p:nvCxnSpPr>
          <p:spPr>
            <a:xfrm rot="5400000">
              <a:off x="1466640" y="3272760"/>
              <a:ext cx="1178640" cy="163080"/>
            </a:xfrm>
            <a:prstGeom prst="bentConnector3">
              <a:avLst>
                <a:gd name="adj1" fmla="val 51604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57" name="Group 11"/>
          <p:cNvGrpSpPr/>
          <p:nvPr/>
        </p:nvGrpSpPr>
        <p:grpSpPr>
          <a:xfrm>
            <a:off x="2614680" y="2906640"/>
            <a:ext cx="1396080" cy="1179720"/>
            <a:chOff x="2614680" y="2906640"/>
            <a:chExt cx="1396080" cy="1179720"/>
          </a:xfrm>
        </p:grpSpPr>
        <p:sp>
          <p:nvSpPr>
            <p:cNvPr id="58" name="Text Box 12"/>
            <p:cNvSpPr/>
            <p:nvPr/>
          </p:nvSpPr>
          <p:spPr>
            <a:xfrm>
              <a:off x="2665800" y="2906640"/>
              <a:ext cx="13449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Discove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istribut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" name="AutoShape 13"/>
            <p:cNvCxnSpPr>
              <a:stCxn id="58" idx="2"/>
              <a:endCxn id="60" idx="0"/>
            </p:cNvCxnSpPr>
            <p:nvPr/>
          </p:nvCxnSpPr>
          <p:spPr>
            <a:xfrm rot="5400000">
              <a:off x="2753640" y="3358800"/>
              <a:ext cx="516960" cy="652680"/>
            </a:xfrm>
            <a:prstGeom prst="bentConnector3">
              <a:avLst>
                <a:gd name="adj1" fmla="val 53728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60" name="Rectangle 14"/>
            <p:cNvSpPr/>
            <p:nvPr/>
          </p:nvSpPr>
          <p:spPr>
            <a:xfrm>
              <a:off x="261468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48"/>
          <p:cNvGrpSpPr/>
          <p:nvPr/>
        </p:nvGrpSpPr>
        <p:grpSpPr>
          <a:xfrm>
            <a:off x="3652920" y="977760"/>
            <a:ext cx="1631520" cy="3102120"/>
            <a:chOff x="3652920" y="977760"/>
            <a:chExt cx="1631520" cy="3102120"/>
          </a:xfrm>
        </p:grpSpPr>
        <p:sp>
          <p:nvSpPr>
            <p:cNvPr id="62" name="Rectangle 16"/>
            <p:cNvSpPr/>
            <p:nvPr/>
          </p:nvSpPr>
          <p:spPr>
            <a:xfrm>
              <a:off x="3983040" y="393696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3652920" y="977760"/>
              <a:ext cx="163152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tity and Attribu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ata Qual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neag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atial Organiz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atial Refer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" name="AutoShape 18"/>
            <p:cNvCxnSpPr>
              <a:stCxn id="63" idx="2"/>
              <a:endCxn id="62" idx="0"/>
            </p:cNvCxnSpPr>
            <p:nvPr/>
          </p:nvCxnSpPr>
          <p:spPr>
            <a:xfrm rot="5400000">
              <a:off x="3467880" y="2936520"/>
              <a:ext cx="1586880" cy="414720"/>
            </a:xfrm>
            <a:prstGeom prst="bentConnector3">
              <a:avLst>
                <a:gd name="adj1" fmla="val 51191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65" name="Group 19"/>
          <p:cNvGrpSpPr/>
          <p:nvPr/>
        </p:nvGrpSpPr>
        <p:grpSpPr>
          <a:xfrm>
            <a:off x="5710680" y="998640"/>
            <a:ext cx="1499760" cy="3087720"/>
            <a:chOff x="5710680" y="998640"/>
            <a:chExt cx="1499760" cy="3087720"/>
          </a:xfrm>
        </p:grpSpPr>
        <p:sp>
          <p:nvSpPr>
            <p:cNvPr id="66" name="Rectangle 20"/>
            <p:cNvSpPr/>
            <p:nvPr/>
          </p:nvSpPr>
          <p:spPr>
            <a:xfrm>
              <a:off x="706752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21"/>
            <p:cNvSpPr/>
            <p:nvPr/>
          </p:nvSpPr>
          <p:spPr>
            <a:xfrm>
              <a:off x="5710680" y="998640"/>
              <a:ext cx="1306800" cy="201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R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dentifi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latfor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stru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greg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AutoShape 22"/>
            <p:cNvCxnSpPr>
              <a:stCxn id="67" idx="2"/>
              <a:endCxn id="66" idx="0"/>
            </p:cNvCxnSpPr>
            <p:nvPr/>
          </p:nvCxnSpPr>
          <p:spPr>
            <a:xfrm flipH="1" rot="16200000">
              <a:off x="6285240" y="3089520"/>
              <a:ext cx="933120" cy="775080"/>
            </a:xfrm>
            <a:prstGeom prst="bentConnector3">
              <a:avLst>
                <a:gd name="adj1" fmla="val 52026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69" name="Group 23"/>
          <p:cNvGrpSpPr/>
          <p:nvPr/>
        </p:nvGrpSpPr>
        <p:grpSpPr>
          <a:xfrm>
            <a:off x="3519360" y="3943440"/>
            <a:ext cx="2210040" cy="2660760"/>
            <a:chOff x="3519360" y="3943440"/>
            <a:chExt cx="2210040" cy="2660760"/>
          </a:xfrm>
        </p:grpSpPr>
        <p:sp>
          <p:nvSpPr>
            <p:cNvPr id="70" name="Rectangle 24"/>
            <p:cNvSpPr/>
            <p:nvPr/>
          </p:nvSpPr>
          <p:spPr>
            <a:xfrm>
              <a:off x="558648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25"/>
            <p:cNvSpPr/>
            <p:nvPr/>
          </p:nvSpPr>
          <p:spPr>
            <a:xfrm>
              <a:off x="3519360" y="4805280"/>
              <a:ext cx="2003400" cy="17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de Lis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any Identifi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ine Resour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esponsible Parti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ata Quality Repor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atial/Temporal Ext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etadata Levels / Scop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2" name="AutoShape 26"/>
            <p:cNvCxnSpPr>
              <a:stCxn id="71" idx="0"/>
              <a:endCxn id="70" idx="2"/>
            </p:cNvCxnSpPr>
            <p:nvPr/>
          </p:nvCxnSpPr>
          <p:spPr>
            <a:xfrm flipH="1" flipV="1" rot="5400000">
              <a:off x="4729680" y="3877200"/>
              <a:ext cx="719280" cy="113724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73" name="Group 27"/>
          <p:cNvGrpSpPr/>
          <p:nvPr/>
        </p:nvGrpSpPr>
        <p:grpSpPr>
          <a:xfrm>
            <a:off x="7130520" y="3943440"/>
            <a:ext cx="1419840" cy="2447640"/>
            <a:chOff x="7130520" y="3943440"/>
            <a:chExt cx="1419840" cy="2447640"/>
          </a:xfrm>
        </p:grpSpPr>
        <p:sp>
          <p:nvSpPr>
            <p:cNvPr id="74" name="Rectangle 28"/>
            <p:cNvSpPr/>
            <p:nvPr/>
          </p:nvSpPr>
          <p:spPr>
            <a:xfrm>
              <a:off x="835020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29"/>
            <p:cNvSpPr/>
            <p:nvPr/>
          </p:nvSpPr>
          <p:spPr>
            <a:xfrm>
              <a:off x="7130520" y="4805280"/>
              <a:ext cx="1419840" cy="15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5-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Quality Coverag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sabil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latfor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stru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6" name="AutoShape 30"/>
            <p:cNvCxnSpPr>
              <a:stCxn id="75" idx="0"/>
              <a:endCxn id="74" idx="2"/>
            </p:cNvCxnSpPr>
            <p:nvPr/>
          </p:nvCxnSpPr>
          <p:spPr>
            <a:xfrm flipH="1" flipV="1" rot="5400000">
              <a:off x="7771320" y="4155120"/>
              <a:ext cx="719280" cy="58140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77" name="Group 49"/>
          <p:cNvGrpSpPr/>
          <p:nvPr/>
        </p:nvGrpSpPr>
        <p:grpSpPr>
          <a:xfrm>
            <a:off x="1005480" y="3943440"/>
            <a:ext cx="3442680" cy="1595160"/>
            <a:chOff x="1005480" y="3943440"/>
            <a:chExt cx="3442680" cy="1595160"/>
          </a:xfrm>
        </p:grpSpPr>
        <p:sp>
          <p:nvSpPr>
            <p:cNvPr id="78" name="Text Box 32"/>
            <p:cNvSpPr/>
            <p:nvPr/>
          </p:nvSpPr>
          <p:spPr>
            <a:xfrm>
              <a:off x="1005480" y="4805280"/>
              <a:ext cx="21589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GDC to ISO 191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ternational Standar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ified Modeling Languag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AutoShape 33"/>
            <p:cNvCxnSpPr>
              <a:stCxn id="78" idx="0"/>
              <a:endCxn id="80" idx="2"/>
            </p:cNvCxnSpPr>
            <p:nvPr/>
          </p:nvCxnSpPr>
          <p:spPr>
            <a:xfrm flipH="1" flipV="1" rot="5400000">
              <a:off x="2871000" y="3299760"/>
              <a:ext cx="719280" cy="229212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80" name="Rectangle 34"/>
            <p:cNvSpPr/>
            <p:nvPr/>
          </p:nvSpPr>
          <p:spPr>
            <a:xfrm>
              <a:off x="4305240" y="394344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35"/>
          <p:cNvSpPr/>
          <p:nvPr/>
        </p:nvSpPr>
        <p:spPr>
          <a:xfrm>
            <a:off x="5408640" y="379440"/>
            <a:ext cx="23508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5753160" y="6483240"/>
            <a:ext cx="23472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57200" y="523800"/>
            <a:ext cx="5057640" cy="307080"/>
            <a:chOff x="457200" y="523800"/>
            <a:chExt cx="5057640" cy="307080"/>
          </a:xfrm>
        </p:grpSpPr>
        <p:sp>
          <p:nvSpPr>
            <p:cNvPr id="84" name="Line 38"/>
            <p:cNvSpPr/>
            <p:nvPr/>
          </p:nvSpPr>
          <p:spPr>
            <a:xfrm>
              <a:off x="457200" y="676440"/>
              <a:ext cx="5057640" cy="0"/>
            </a:xfrm>
            <a:prstGeom prst="line">
              <a:avLst/>
            </a:prstGeom>
            <a:ln w="38160">
              <a:solidFill>
                <a:srgbClr val="777777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39"/>
            <p:cNvSpPr/>
            <p:nvPr/>
          </p:nvSpPr>
          <p:spPr>
            <a:xfrm>
              <a:off x="2296800" y="523800"/>
              <a:ext cx="119736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asic Cont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6" name="AutoShape 40"/>
          <p:cNvCxnSpPr/>
          <p:nvPr/>
        </p:nvCxnSpPr>
        <p:spPr>
          <a:xfrm flipH="1" rot="16200000">
            <a:off x="2720880" y="3334320"/>
            <a:ext cx="5953680" cy="345240"/>
          </a:xfrm>
          <a:prstGeom prst="bentConnector3">
            <a:avLst>
              <a:gd name="adj1" fmla="val 53141"/>
            </a:avLst>
          </a:prstGeom>
          <a:ln w="38160">
            <a:solidFill>
              <a:srgbClr val="777777"/>
            </a:solidFill>
            <a:prstDash val="sysDot"/>
            <a:miter/>
          </a:ln>
        </p:spPr>
      </p:cxnSp>
      <p:grpSp>
        <p:nvGrpSpPr>
          <p:cNvPr id="87" name="Group 41"/>
          <p:cNvGrpSpPr/>
          <p:nvPr/>
        </p:nvGrpSpPr>
        <p:grpSpPr>
          <a:xfrm>
            <a:off x="5537160" y="504720"/>
            <a:ext cx="3149640" cy="307080"/>
            <a:chOff x="5537160" y="504720"/>
            <a:chExt cx="3149640" cy="307080"/>
          </a:xfrm>
        </p:grpSpPr>
        <p:sp>
          <p:nvSpPr>
            <p:cNvPr id="88" name="Line 42"/>
            <p:cNvSpPr/>
            <p:nvPr/>
          </p:nvSpPr>
          <p:spPr>
            <a:xfrm>
              <a:off x="5537160" y="685800"/>
              <a:ext cx="3149640" cy="0"/>
            </a:xfrm>
            <a:prstGeom prst="line">
              <a:avLst/>
            </a:prstGeom>
            <a:ln w="38160">
              <a:solidFill>
                <a:srgbClr val="777777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43"/>
            <p:cNvSpPr/>
            <p:nvPr/>
          </p:nvSpPr>
          <p:spPr>
            <a:xfrm>
              <a:off x="6258600" y="504720"/>
              <a:ext cx="1517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xtended Cont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44"/>
          <p:cNvGrpSpPr/>
          <p:nvPr/>
        </p:nvGrpSpPr>
        <p:grpSpPr>
          <a:xfrm>
            <a:off x="5990040" y="3943440"/>
            <a:ext cx="1563120" cy="2021400"/>
            <a:chOff x="5990040" y="3943440"/>
            <a:chExt cx="1563120" cy="2021400"/>
          </a:xfrm>
        </p:grpSpPr>
        <p:sp>
          <p:nvSpPr>
            <p:cNvPr id="91" name="Rectangle 45"/>
            <p:cNvSpPr/>
            <p:nvPr/>
          </p:nvSpPr>
          <p:spPr>
            <a:xfrm>
              <a:off x="7410600" y="3943440"/>
              <a:ext cx="14256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2" name="AutoShape 46"/>
            <p:cNvCxnSpPr>
              <a:stCxn id="93" idx="0"/>
              <a:endCxn id="91" idx="2"/>
            </p:cNvCxnSpPr>
            <p:nvPr/>
          </p:nvCxnSpPr>
          <p:spPr>
            <a:xfrm flipH="1" flipV="1" rot="5400000">
              <a:off x="6606360" y="3930120"/>
              <a:ext cx="719280" cy="1031760"/>
            </a:xfrm>
            <a:prstGeom prst="bentConnector3">
              <a:avLst>
                <a:gd name="adj1" fmla="val 5002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3" name="Text Box 47"/>
            <p:cNvSpPr/>
            <p:nvPr/>
          </p:nvSpPr>
          <p:spPr>
            <a:xfrm>
              <a:off x="5990040" y="4805280"/>
              <a:ext cx="921240" cy="115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SO 191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eatur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60520" y="33336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3"/>
          <p:cNvSpPr/>
          <p:nvPr/>
        </p:nvSpPr>
        <p:spPr>
          <a:xfrm>
            <a:off x="471600" y="6391440"/>
            <a:ext cx="8215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58"/>
          <p:cNvGrpSpPr/>
          <p:nvPr/>
        </p:nvGrpSpPr>
        <p:grpSpPr>
          <a:xfrm>
            <a:off x="474120" y="5079960"/>
            <a:ext cx="1561320" cy="1382760"/>
            <a:chOff x="474120" y="5079960"/>
            <a:chExt cx="1561320" cy="1382760"/>
          </a:xfrm>
        </p:grpSpPr>
        <p:sp>
          <p:nvSpPr>
            <p:cNvPr id="97" name="Text Box 5"/>
            <p:cNvSpPr/>
            <p:nvPr/>
          </p:nvSpPr>
          <p:spPr>
            <a:xfrm>
              <a:off x="474120" y="5079960"/>
              <a:ext cx="15613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ientific Ques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equire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se Ca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55872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9" name="AutoShape 7"/>
            <p:cNvCxnSpPr>
              <a:stCxn id="97" idx="2"/>
              <a:endCxn id="98" idx="0"/>
            </p:cNvCxnSpPr>
            <p:nvPr/>
          </p:nvCxnSpPr>
          <p:spPr>
            <a:xfrm rot="5400000">
              <a:off x="692280" y="5756760"/>
              <a:ext cx="500760" cy="626040"/>
            </a:xfrm>
            <a:prstGeom prst="bentConnector3">
              <a:avLst>
                <a:gd name="adj1" fmla="val 49784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00" name="Group 59"/>
          <p:cNvGrpSpPr/>
          <p:nvPr/>
        </p:nvGrpSpPr>
        <p:grpSpPr>
          <a:xfrm>
            <a:off x="1334520" y="4176720"/>
            <a:ext cx="1977480" cy="2286000"/>
            <a:chOff x="1334520" y="4176720"/>
            <a:chExt cx="1977480" cy="2286000"/>
          </a:xfrm>
        </p:grpSpPr>
        <p:sp>
          <p:nvSpPr>
            <p:cNvPr id="101" name="Rectangle 9"/>
            <p:cNvSpPr/>
            <p:nvPr/>
          </p:nvSpPr>
          <p:spPr>
            <a:xfrm>
              <a:off x="225108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1334520" y="4176720"/>
              <a:ext cx="197748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tadata Cont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dependent of standar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3" name="AutoShape 11"/>
            <p:cNvCxnSpPr>
              <a:stCxn id="102" idx="2"/>
              <a:endCxn id="101" idx="0"/>
            </p:cNvCxnSpPr>
            <p:nvPr/>
          </p:nvCxnSpPr>
          <p:spPr>
            <a:xfrm rot="5400000">
              <a:off x="1514520" y="5510520"/>
              <a:ext cx="1616760" cy="2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04" name="Group 60"/>
          <p:cNvGrpSpPr/>
          <p:nvPr/>
        </p:nvGrpSpPr>
        <p:grpSpPr>
          <a:xfrm>
            <a:off x="3422520" y="3989520"/>
            <a:ext cx="2281320" cy="2472840"/>
            <a:chOff x="3422520" y="3989520"/>
            <a:chExt cx="2281320" cy="2472840"/>
          </a:xfrm>
        </p:grpSpPr>
        <p:sp>
          <p:nvSpPr>
            <p:cNvPr id="105" name="Text Box 13"/>
            <p:cNvSpPr/>
            <p:nvPr/>
          </p:nvSpPr>
          <p:spPr>
            <a:xfrm>
              <a:off x="3422520" y="3989520"/>
              <a:ext cx="2281320" cy="15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ndard Implem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/ Guida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SO 191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GC Capabiliti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GDC W/ extens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ASA DIF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ublin Co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6" name="AutoShape 14"/>
            <p:cNvCxnSpPr>
              <a:stCxn id="105" idx="2"/>
              <a:endCxn id="107" idx="0"/>
            </p:cNvCxnSpPr>
            <p:nvPr/>
          </p:nvCxnSpPr>
          <p:spPr>
            <a:xfrm rot="5400000">
              <a:off x="4191840" y="5947920"/>
              <a:ext cx="740160" cy="3960"/>
            </a:xfrm>
            <a:prstGeom prst="bentConnector3">
              <a:avLst>
                <a:gd name="adj1" fmla="val 49975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07" name="Rectangle 15"/>
            <p:cNvSpPr/>
            <p:nvPr/>
          </p:nvSpPr>
          <p:spPr>
            <a:xfrm>
              <a:off x="4489200" y="6319800"/>
              <a:ext cx="142920" cy="14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66"/>
          <p:cNvGrpSpPr/>
          <p:nvPr/>
        </p:nvGrpSpPr>
        <p:grpSpPr>
          <a:xfrm>
            <a:off x="5784840" y="4176720"/>
            <a:ext cx="1133280" cy="2286000"/>
            <a:chOff x="5784840" y="4176720"/>
            <a:chExt cx="1133280" cy="2286000"/>
          </a:xfrm>
        </p:grpSpPr>
        <p:sp>
          <p:nvSpPr>
            <p:cNvPr id="109" name="Text Box 17"/>
            <p:cNvSpPr/>
            <p:nvPr/>
          </p:nvSpPr>
          <p:spPr>
            <a:xfrm>
              <a:off x="5784840" y="4176720"/>
              <a:ext cx="113328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nsw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LT,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0" name="AutoShape 18"/>
            <p:cNvCxnSpPr>
              <a:stCxn id="109" idx="2"/>
              <a:endCxn id="111" idx="0"/>
            </p:cNvCxnSpPr>
            <p:nvPr/>
          </p:nvCxnSpPr>
          <p:spPr>
            <a:xfrm flipH="1" rot="16200000">
              <a:off x="5649480" y="5616720"/>
              <a:ext cx="1404360" cy="2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11" name="Rectangle 19"/>
            <p:cNvSpPr/>
            <p:nvPr/>
          </p:nvSpPr>
          <p:spPr>
            <a:xfrm>
              <a:off x="628164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62"/>
          <p:cNvGrpSpPr/>
          <p:nvPr/>
        </p:nvGrpSpPr>
        <p:grpSpPr>
          <a:xfrm>
            <a:off x="6717240" y="5029200"/>
            <a:ext cx="1946880" cy="1433520"/>
            <a:chOff x="6717240" y="5029200"/>
            <a:chExt cx="1946880" cy="1433520"/>
          </a:xfrm>
        </p:grpSpPr>
        <p:sp>
          <p:nvSpPr>
            <p:cNvPr id="113" name="Rectangle 25"/>
            <p:cNvSpPr/>
            <p:nvPr/>
          </p:nvSpPr>
          <p:spPr>
            <a:xfrm>
              <a:off x="7620120" y="6319800"/>
              <a:ext cx="142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6717240" y="5029200"/>
              <a:ext cx="1946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tadata Manage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terface (xForms, wiki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reate / Read /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pdate / De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5" name="AutoShape 27"/>
            <p:cNvCxnSpPr>
              <a:stCxn id="114" idx="2"/>
              <a:endCxn id="113" idx="0"/>
            </p:cNvCxnSpPr>
            <p:nvPr/>
          </p:nvCxnSpPr>
          <p:spPr>
            <a:xfrm flipH="1">
              <a:off x="7690680" y="5981400"/>
              <a:ext cx="1080" cy="339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16" name="Rectangle 41"/>
          <p:cNvSpPr/>
          <p:nvPr/>
        </p:nvSpPr>
        <p:spPr>
          <a:xfrm>
            <a:off x="2052720" y="113976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033720" y="13446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9800" y="447840"/>
            <a:ext cx="4162680" cy="29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62120" y="447840"/>
            <a:ext cx="4129200" cy="29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93960" y="450720"/>
            <a:ext cx="3456000" cy="291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7" descr=""/>
          <p:cNvPicPr/>
          <p:nvPr/>
        </p:nvPicPr>
        <p:blipFill>
          <a:blip r:embed="rId7"/>
          <a:stretch/>
        </p:blipFill>
        <p:spPr>
          <a:xfrm>
            <a:off x="4619520" y="466560"/>
            <a:ext cx="4048200" cy="289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5"/>
          <p:cNvSpPr/>
          <p:nvPr/>
        </p:nvSpPr>
        <p:spPr>
          <a:xfrm>
            <a:off x="5433120" y="2149560"/>
            <a:ext cx="9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GDC FA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4977360" y="2766960"/>
            <a:ext cx="865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SO Ide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68"/>
          <p:cNvSpPr/>
          <p:nvPr/>
        </p:nvSpPr>
        <p:spPr>
          <a:xfrm>
            <a:off x="469800" y="3557520"/>
            <a:ext cx="2936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Providers / Scienti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69"/>
          <p:cNvSpPr/>
          <p:nvPr/>
        </p:nvSpPr>
        <p:spPr>
          <a:xfrm>
            <a:off x="3443760" y="355608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tadata Standards Expe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0"/>
          <p:cNvSpPr/>
          <p:nvPr/>
        </p:nvSpPr>
        <p:spPr>
          <a:xfrm>
            <a:off x="6156360" y="3557520"/>
            <a:ext cx="25178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i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469800" y="3560760"/>
            <a:ext cx="8204400" cy="2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7:25:17Z</dcterms:created>
  <dc:creator>Ted Habermann</dc:creator>
  <dc:description/>
  <dc:language>en-US</dc:language>
  <cp:lastModifiedBy>Ted Habermann</cp:lastModifiedBy>
  <dcterms:modified xsi:type="dcterms:W3CDTF">2009-07-09T17:26:26Z</dcterms:modified>
  <cp:revision>1</cp:revision>
  <dc:subject/>
  <dc:title>Slide 1</dc:title>
</cp:coreProperties>
</file>